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4266-F536-4041-9395-08DA9013B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biology.kenyon.edu/courses/biol114/Chap05/Chapter05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ompbio.pbworks.com/w/page/16252897/Introduction%20and%20Basic%20Molecular%20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A3E5-DC3D-4760-92AA-804D3565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61A4-920D-4CA0-BCE7-D47B7D49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C016-9BAC-4082-AC6B-A25B32C80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5C26-FFED-4D3B-943A-8E81BE423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DA88-0DE6-4049-98E0-A0452B25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8D3A-EAD6-4E25-8D54-52E68E55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89CB-E51F-4D42-A36B-6CC770E2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E07B-26AE-40EA-BD37-8DD47729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6588-EC32-4B7D-9967-B2CED139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9C58-89B1-4B4D-BF64-CA1E818C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94D0-109D-47F3-BB63-444056C1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AFE5-024E-42FF-B168-9FAF2B0D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F47A-4FA1-458C-BE35-7EFCDB6EF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ecular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Synthesis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57360" y="1981080"/>
            <a:ext cx="602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ntral Do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ntral dog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molecular genetics is that protein synthesis occurs as a two-step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cri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copying of information in DNA into mRNA (messenger 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using the mRNA blueprint to create a chain of amino acids (involves ribosom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ntral Do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08240" y="1535040"/>
            <a:ext cx="457344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bonucleic Acid (RN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5800" y="1981080"/>
          <a:ext cx="7772400" cy="42372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oxyribose sug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ose sug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ble-stran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-stran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-T, C-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-U, C-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nucle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nucleus and in cytopla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ssenger RNA (mRN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information from DNA is transcribed onto mRNA; length depends on length of gene transcri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er RNA (tRN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transfers amino acids to ribosome to build polypept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bosomal RNA (rRN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structural component of ribo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NA polymer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nds to DNA at the promoter site (near the beginning of the g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on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DNA template, RNA polymerase adds ribonucleotides to buil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ursor m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NA polymerase recognizes signal to stop transcription (termination sequ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bosome recognizes specific sequence on mRNA and binds to that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on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bosome moves along mRNA 3 nucleotides at a time;  tRNA delivers amino acids to elongate polypeptid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base “stop” signal reached and ribosome falls off the mRNA, releasing polypeptid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75040" y="609480"/>
            <a:ext cx="4992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3-base sequence on mRNA that codes for a specific amino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 co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signals initiation; codes for methio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p co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does not code for an amino acid;  signals 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23:49:34Z</dcterms:created>
  <dc:creator>rubina khan</dc:creator>
  <dc:description/>
  <dc:language>en-US</dc:language>
  <cp:lastModifiedBy>rubina khan</cp:lastModifiedBy>
  <dcterms:modified xsi:type="dcterms:W3CDTF">2012-04-24T11:30:41Z</dcterms:modified>
  <cp:revision>31</cp:revision>
  <dc:subject/>
  <dc:title>Molecular Genetics</dc:title>
</cp:coreProperties>
</file>